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96E2-6748-48CF-92F1-7D228BE4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9192-F483-4698-8177-44F2FC92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142A-7568-45EB-82A6-A7FC02FA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BLM at the end of Scaffolding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7D3-2B35-4B9C-ADE9-859D1470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F599-FE9B-4031-AAB3-5C13712FF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E05-73AA-4F35-8EA6-28D5D604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ee if students know what linear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16F-FA37-4170-8DFA-1F6BFC16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59DE-03D0-43A4-A970-8A8334A5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m to think about what similar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is was an ope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sonable response how do you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open question – value and then look at the qua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2 to include Big Idea &amp; 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0253-CF1F-4E32-A89C-F0199F16A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you choose those functions for the students to talk about?  What are you going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rovide for the teachers the graphs so that they can have the discussion, not in the ppt but provided at each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B0D-C0C5-4DFD-97E3-63611E684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CB2C-9B3E-4021-AEB1-13E1422C8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6ED9-1C70-4AFB-81FC-C2BC35DE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a number and then tripl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75C8-2ACB-4F0A-8512-26C1F639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BAA-EC13-41BD-9525-2F9D212EE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BA42-DC5C-441D-8908-061C471A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274B-473F-4908-B58B-2288DA51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DFB-6AD2-4554-9985-A29BA65C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wording from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do this strategy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rom each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63A8-FB7E-4FE8-BA05-18B9FAA6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7DF7-E6D6-462F-8E87-90AD70F2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w a questioning pi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A53-4668-451F-A2CC-F4F55E44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8361-5AB6-46AD-817C-B4B09E1A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163D-3E43-4843-9582-17D9F1FA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88A9-975D-4374-A260-A9A3E270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9B2-C4B7-4F32-8996-95EE75DC2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81F4-84A7-4DE3-8F5E-CFA38126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90AA-C43D-477B-925E-32834B999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F7B9-7079-4982-A605-C2D71258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CBBE-B944-486B-9DFE-E79CB3326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BDD-576E-4880-B519-E04325AB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CDB2-1E2A-4D84-B9D1-E3AB15A4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91C6-6014-49AF-AE6A-E327EF9D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243-AB1C-491B-9AB9-F623EB75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D75-29F7-4BDE-94D4-5A47F5B1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0A9-62D4-4663-B5F9-C8D54B83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B44-8F94-4C56-9AFF-10B61EC7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AB5-1A65-4866-9B87-84BC124F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B4F-DF5E-4D14-9D42-C7E7468E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60D-7D46-46D3-8419-FECB9B76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588-C493-4051-A0C7-498E251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8B6-07D7-4F05-A8A6-0715695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6A1-7D3C-4D0A-86F8-F3E59226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83C-82CA-406E-9F3D-AF75218F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137-1A0B-4187-B365-F715FA7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6BD-536D-4F90-9519-5275ACF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DB1-94C6-42D1-8234-339083DFF6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2050920" y="4941720"/>
            <a:ext cx="648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3664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655640" y="1952640"/>
            <a:ext cx="72900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060A-813E-4107-BB81-85C97919DD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32DD-B8E1-4D04-8E8C-79D805BBE8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47640" y="1521000"/>
            <a:ext cx="785484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sk an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body respo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thing we need to work on are strategies to use in that sit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try an exam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600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E002-9FA6-4C71-AAB6-2F03AB1DC9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start with one of the open questions from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8728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D026-E8B3-4B18-B198-C2776A3B90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2023920"/>
            <a:ext cx="82072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y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31640" y="7286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CE2-7C50-4D0F-8441-EA12E2BB7A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76360" y="3789360"/>
            <a:ext cx="781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ld one of your patterns be 1, 4, 9, 16,…? 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5892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8360" y="2023920"/>
            <a:ext cx="8207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3DEE-02EE-4DDC-9AA8-02AC9EF345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2133720"/>
            <a:ext cx="8281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were describing your pattern to another student, what information would you give th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87280" y="549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68360" y="1449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8D73-2E96-47B7-B5B2-82E595B657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971640" y="317664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 2, 5, 8, 11, 14,…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, 10, 15, 20,… really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68360" y="152100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87280" y="549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Discuss at your tabl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0200" y="20239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ow do the three questions help students with scaffolding their thinking to answer the open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03280" y="375300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304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How does the Big Idea and the Lesson Goal impact the questions you are asking for scaffold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C3F-9855-46C9-98F6-90A2C0C172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00" y="206064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most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2       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836640"/>
            <a:ext cx="8588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other example from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1A64-B672-4FDA-A5E7-D61FA50A5E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6000" y="1449360"/>
            <a:ext cx="864072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ould you be looking for to decide if two graphs were a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Comic Sans MS"/>
              </a:rPr>
              <a:t>Do any of the graphs go through the same poi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any of the graphs open in the same dir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cc33"/>
                </a:solidFill>
                <a:latin typeface="Comic Sans MS"/>
              </a:rPr>
              <a:t>Are any of the graphs congruent to other graph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476280"/>
            <a:ext cx="8424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What’s My Number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2333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the number of brothers you have b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b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number of sister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by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number of living 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number is:   ____  ____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43280" y="598500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598500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s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4000" y="5950080"/>
            <a:ext cx="167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grand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DBFB-B43C-42F8-BEBC-6289365471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243828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ne of the Scaffolding Thinking Prompts do you lik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3964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E666-D684-467C-A358-C0CA3B76A6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76360" y="2438280"/>
            <a:ext cx="8208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takes more than 5 English words to describe an algebraic expression that has one term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algebraic and verbal expressions b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lgebraic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F71B-C6A8-4336-9D31-C030A579C9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58920" y="1628640"/>
            <a:ext cx="84978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English words does it take to describe 2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ld the algebraic expression be 2n+3? Why or why no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terms would the expression “a number squared”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24000" y="368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caffolding 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open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under what conditions would you use those scaffold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87280" y="4616280"/>
            <a:ext cx="2384280" cy="844560"/>
            <a:chOff x="1187280" y="4616280"/>
            <a:chExt cx="2384280" cy="844560"/>
          </a:xfrm>
        </p:grpSpPr>
        <p:sp>
          <p:nvSpPr>
            <p:cNvPr id="118" name=""/>
            <p:cNvSpPr/>
            <p:nvPr/>
          </p:nvSpPr>
          <p:spPr>
            <a:xfrm>
              <a:off x="1187280" y="46162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09040" y="46162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52498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09040" y="52498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31160" y="4616280"/>
              <a:ext cx="14040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1160" y="5249880"/>
              <a:ext cx="14040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5" descr="Picture 1.png"/>
          <p:cNvPicPr/>
          <p:nvPr/>
        </p:nvPicPr>
        <p:blipFill>
          <a:blip r:embed="rId1"/>
          <a:stretch/>
        </p:blipFill>
        <p:spPr>
          <a:xfrm>
            <a:off x="4284720" y="3933720"/>
            <a:ext cx="4211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9960" y="855720"/>
            <a:ext cx="72885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Calibri"/>
              </a:rPr>
              <a:t>This picture shows that 4x + 2 = 2 (2x + 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92000" y="1341360"/>
            <a:ext cx="4904640" cy="1420560"/>
            <a:chOff x="792000" y="1341360"/>
            <a:chExt cx="4904640" cy="1420560"/>
          </a:xfrm>
        </p:grpSpPr>
        <p:sp>
          <p:nvSpPr>
            <p:cNvPr id="127" name=""/>
            <p:cNvSpPr/>
            <p:nvPr/>
          </p:nvSpPr>
          <p:spPr>
            <a:xfrm>
              <a:off x="792000" y="1341360"/>
              <a:ext cx="2307960" cy="3553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9960" y="1341360"/>
              <a:ext cx="2307960" cy="3553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000" y="2407320"/>
              <a:ext cx="2307960" cy="354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9960" y="2407320"/>
              <a:ext cx="2307960" cy="354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7920" y="1341360"/>
              <a:ext cx="288720" cy="3553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7920" y="2407320"/>
              <a:ext cx="288720" cy="354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74200" y="3175560"/>
            <a:ext cx="723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no matter what x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•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Explain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•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Now draw another picture that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another equation that is true no m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what x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79D9-D9E4-4887-AABA-49526A1B44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39640" y="1233360"/>
            <a:ext cx="82454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raph the 2 lin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1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st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 is 3x + 2y = 6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2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nd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 is –x + 3y = 1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 third line lies between them. What might its equatio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C6F-FB3E-454D-AEA6-BEDFE3AD87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469E-09A7-413D-B298-B7C7609D68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  <p:sp>
        <p:nvSpPr>
          <p:cNvPr id="140" name="Straight Connector 4"/>
          <p:cNvSpPr/>
          <p:nvPr/>
        </p:nvSpPr>
        <p:spPr>
          <a:xfrm>
            <a:off x="0" y="1981080"/>
            <a:ext cx="9144000" cy="160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7"/>
          <p:cNvSpPr/>
          <p:nvPr/>
        </p:nvSpPr>
        <p:spPr>
          <a:xfrm>
            <a:off x="0" y="1219320"/>
            <a:ext cx="8839080" cy="3657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9"/>
          <p:cNvSpPr/>
          <p:nvPr/>
        </p:nvSpPr>
        <p:spPr>
          <a:xfrm flipH="1">
            <a:off x="3048120" y="1295280"/>
            <a:ext cx="304560" cy="4267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2"/>
          <p:cNvSpPr/>
          <p:nvPr/>
        </p:nvSpPr>
        <p:spPr>
          <a:xfrm flipV="1">
            <a:off x="304920" y="2437920"/>
            <a:ext cx="8839080" cy="1219320"/>
          </a:xfrm>
          <a:prstGeom prst="line">
            <a:avLst/>
          </a:prstGeom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920" y="2565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Break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14382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7366-96B8-410D-818A-5705D239A8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st of the scaffolds we just saw were very problem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ral scaffolds are also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920" y="1125360"/>
            <a:ext cx="8229600" cy="37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erson from your board go to one of the four co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in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e an interesting aspect  from the ‘view &amp; discuss’ or ‘do’ that you participated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re the Big Ideas impacting your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is more comfortable for you: Open or Parallel Task,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re you using the MATCH Template and/or PPQT to help you with lesson pl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8024-521A-4BC2-B333-CD6B1E11B7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3000" y="243828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have you seen something like this bef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patterns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 you thought about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Fail 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CA0F-DE0D-4A8C-B807-96FAE3570D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276720" y="1808280"/>
            <a:ext cx="5614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useful source for general scaffolds is available in the mathematical process package in TIPS on the Edugains webs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16000" y="657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20886000">
            <a:off x="684000" y="1699920"/>
            <a:ext cx="1725480" cy="21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95640" y="1700280"/>
            <a:ext cx="5581800" cy="465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2E6A-F5E6-4308-A622-6C29B0EF4D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58920" y="1916280"/>
            <a:ext cx="424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the parallel task, decide what possible scaffolds might be need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50920" y="47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Your turn to scaff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2097000"/>
            <a:ext cx="3851280" cy="310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Looking at Student Wor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pick one of the student’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eedback would you give students to move them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ith another 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249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469b"/>
                </a:solidFill>
                <a:latin typeface="Arial"/>
              </a:rPr>
              <a:t>Lunch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00720" y="3105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5F3-FE61-45DA-A7A9-9BB9C02149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92000" y="2133720"/>
            <a:ext cx="7774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nd parallel tasks are built for instruc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ocus is not on evaluation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39640" y="8366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94D5-A16E-4724-B6CA-376248FBF5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47640" y="1881360"/>
            <a:ext cx="7810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total sense to use parallel tasks to measure communication and/or thinking and maybe (depending) knowledge or appli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539640" y="657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428472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way to represent the pattern with the general term 3n +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925 a term in the pattern? How do you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0920" y="1160280"/>
            <a:ext cx="4038840" cy="472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way to represent a pattern where each term value is eight times the term numb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925 a term in the pattern? 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0120" y="6093000"/>
            <a:ext cx="797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goal: Represent the general term of a linear grow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89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ossible Scoring Sche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6080" y="1650240"/>
            <a:ext cx="51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ld be marked as a 6-mark ques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059560"/>
            <a:ext cx="880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3 marks for a really good representation of the pattern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that you are representing the right pattern (which is the most important 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withou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6840" y="3234240"/>
            <a:ext cx="68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 mark for correctly deciding whether 925 is in the patte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9600" y="3933000"/>
            <a:ext cx="84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2 marks for a complete explanation for why 925 is or is not in th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1701-F501-4C29-BABD-2F9DB9A9CA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50920" y="1449360"/>
            <a:ext cx="3816360" cy="52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 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 and justify each step you would use in solving the equation without using a calc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9528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80920" y="5265720"/>
                <a:ext cx="2124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824360" y="1484280"/>
            <a:ext cx="4032360" cy="545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 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 and justify each step you would use in solving the equation without using a calc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5 x – 4.2 = 7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ovincial-level Eviden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2" name="Rectangle 2"/>
          <p:cNvGraphicFramePr/>
          <p:nvPr/>
        </p:nvGraphicFramePr>
        <p:xfrm>
          <a:off x="1447920" y="1312920"/>
          <a:ext cx="6172200" cy="546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12920"/>
                    <a:ext cx="617220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B834-21EF-41FA-9A72-24B5061B23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87280" y="1341360"/>
            <a:ext cx="4176720" cy="420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ketch graphs of  y =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      y =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how the graphs are alike and differen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680000" y="1305000"/>
            <a:ext cx="4178160" cy="420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B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ketch graphs of  y =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      y = -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how the graphs are alike and differen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55897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Which of those things could you have predicted without sketching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7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Possible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040" y="1392480"/>
            <a:ext cx="76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 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ine the effects of th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wo graphs of the same type of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1280" y="2313000"/>
            <a:ext cx="8055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98F-565E-4984-9055-91A5F255C7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87280" y="1484280"/>
            <a:ext cx="839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sense, even on a “test”, to use open tasks to ensure that students get an opportunity to tell as much as they know in whatever form works for them about an idea they have learn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68360" y="47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Example 3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" y="1637280"/>
            <a:ext cx="9137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n equation to solve wher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 is an integer. Solve it in at l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different ways, explaining your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you had chosen an e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the solution turned out to be a f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your methods would be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kely to help you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 possible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697960" cy="2103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47320" y="504828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earning Goal:  Different representations of equa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more useful depending on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E43-74F9-4006-BC43-1CEDD387E2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76360" y="224172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cribe a number of examples of measurements or situations that would model direct variation. What is it about them that makes the variation di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3FE-AC6C-4F8F-B7EE-1CBDFB9E692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ive as many reasons as you can to explain why there are many quadratic relations that pass through the points (0,0) and (2,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02AD-E3A9-4C5A-92B7-F719EC3039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use a previously shared rubric or marking scheme before posing such questions to help students meet succ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It is importan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7B5A-5C7B-4E81-B985-CC5F00027A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though assessment of learning should drive what you teach, it should not limit the strategies you use to meet all students’ nee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Break ou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274428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Student Samples (Assessment for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ing Scaffol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ing Open &amp; Paralle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Consolid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1640" y="162864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Move to one of the following areas of inter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ovincial-level Eviden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5" name="Rectangle 2"/>
          <p:cNvGraphicFramePr/>
          <p:nvPr/>
        </p:nvGraphicFramePr>
        <p:xfrm>
          <a:off x="1447920" y="1295280"/>
          <a:ext cx="647676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4767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1D07-B4F5-40AE-A195-FA4A776258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55640" y="2276640"/>
            <a:ext cx="76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“big idea” for this PLMLC series is that if you think more broadly about what you are focusing on in instruction, you are more likely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C68E-0CD2-4867-8643-6487C6819B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826920" y="155736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lp students make essential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students learn what is really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a much broader range of students can meet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03280" y="441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ork in Boards Grou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moving forward with the ideas we have been work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will be happy to join your team if you want a different set of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n another board to shar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961-BAE8-4A85-82C1-97E17BA289C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920" y="2149560"/>
            <a:ext cx="83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re welcome to ask any questions or offer any insights on what we’ve discussed in today’s plenary .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Your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ext Steps – Professional Lear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January to June 2010 with all expenses paid by the ministry - possible the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 to Grade 8+ Mathematics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room Management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ategic planning work sess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ustomized provincial-level support through Jeff Irvine, Myrna Ingalls, Demetra Sald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postings on www.edugains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oard-level Evidence and BIP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on DSB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09-10 Math GAINS Transition Projec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borough Victoria Northumberland Clarington CDSB 2-part roving Math GAIN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Essex CDSB roving Math GAIN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ext Steps – Materi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to Grade 8+ Mathematics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de bands K-1, 2-3, 4-5, 6-7, 7-8, ?-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ed on Number Sens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just a workbook” for students and “guide” for learning facilitat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nded for home use, but good for other applic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part lessons with 4 parallel questions addressing the same learning goa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ltiple solutions with scaffolding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ext Steps – Professional Lear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January to June 2010 with all expenses paid by the ministry - possible the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 to Grade 8+ Mathematics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room Management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ategic planning work sess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ustomized provincial-level support through Jeff Irvine, Myrna Ingalls, Demetra Sald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postings on www.edugains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349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Comic Sans MS"/>
              </a:rPr>
              <a:t>Addressing Questions from Session 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173664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1:38:57Z</dcterms:created>
  <dc:creator>PSteele</dc:creator>
  <dc:description/>
  <dc:language>en-US</dc:language>
  <cp:lastModifiedBy>PSteele</cp:lastModifiedBy>
  <dcterms:modified xsi:type="dcterms:W3CDTF">2009-11-19T00:02:57Z</dcterms:modified>
  <cp:revision>482</cp:revision>
  <dc:subject/>
  <dc:title>Slide 1</dc:title>
</cp:coreProperties>
</file>